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CAA-FC77-4E4B-AB13-B429EBAE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955-30A1-46E7-9DED-FFCD6901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0B7-3A5C-4432-9C0A-1B01D3B4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6786-D574-4D3D-8358-E6F344AB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A175-FA7F-478D-8248-CB4CAAF6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14FA-6575-40BF-A5BE-69A0D1A3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785E-81CB-47EB-8F9B-01917F5B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716B-53CC-4095-A0CE-0B03ED57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1A74-0346-425A-B389-0C3C552C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DD36-01D9-4179-84C8-5F69267F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24CC-85E3-4CFB-9EFF-A9D9AF0D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659-61CE-4B6C-BF27-84E729CB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B952-E369-4DEB-B38A-829482D9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8759-0778-474E-9E0E-5AAA88BA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19E5-6985-44BE-8010-6928598C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E4A5-DF30-4BBE-9332-0F041FFA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3FFB-D9DC-4920-B06C-CB690DF0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1468-94CA-4959-8095-7F2C130D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6B3-BF50-479C-95AF-1F85CC60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3E5-90A5-4795-9B2E-814D996B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61CD-8F23-4693-8DCF-62C71276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CE2-43F3-4B5C-A7ED-31927DFA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358-57C2-4084-9610-CB182242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F8E2-F4CA-433D-B3EE-327C6C20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20800" y="0"/>
            <a:ext cx="57024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BB99-33F6-499B-B644-DFF093781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20800" y="0"/>
            <a:ext cx="57024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A944-B9A1-4B17-A1BC-60E9D0AB8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mpl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TILIZAN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MP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mp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tis, pero tiene restric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00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00 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rfaz gráfica pobre, se escribe en notepad o editor de texto si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delo: archivo.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atos: archivo.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pilación: archivo.run (opc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492360" y="3297240"/>
          <a:ext cx="5651640" cy="3560760"/>
        </p:xfrm>
        <a:graphic>
          <a:graphicData uri="http://schemas.openxmlformats.org/drawingml/2006/table">
            <a:tbl>
              <a:tblPr/>
              <a:tblGrid>
                <a:gridCol w="1413000"/>
                <a:gridCol w="1413000"/>
                <a:gridCol w="1412640"/>
                <a:gridCol w="1413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h/maq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n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h/h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a D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a 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ana D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ana 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2916360" y="1989000"/>
            <a:ext cx="62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bricación de puertas y vent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800" y="458136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O D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nibilidad de recur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tidad de madera: 80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s de sierra :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s hombre para barnizado: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a míni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 puertas si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ventanas do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 igual se v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067280" y="3603600"/>
          <a:ext cx="3429000" cy="3254400"/>
        </p:xfrm>
        <a:graphic>
          <a:graphicData uri="http://schemas.openxmlformats.org/drawingml/2006/table">
            <a:tbl>
              <a:tblPr/>
              <a:tblGrid>
                <a:gridCol w="1141200"/>
                <a:gridCol w="1146240"/>
                <a:gridCol w="11415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u.m.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u.m.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a Do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a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ana Do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ana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7929720" y="3573360"/>
          <a:ext cx="1214280" cy="3284280"/>
        </p:xfrm>
        <a:graphic>
          <a:graphicData uri="http://schemas.openxmlformats.org/drawingml/2006/table">
            <a:tbl>
              <a:tblPr/>
              <a:tblGrid>
                <a:gridCol w="1214280"/>
              </a:tblGrid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u.m.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7308720" y="4581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08720" y="4005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08720" y="5877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08720" y="5300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08720" y="652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y Progra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o modelo, luego programo (lenguaje similar a GA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juntos: productos y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set pro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set re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áme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ponibilidad de cada recur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param drec{rec} &gt;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o de recursos por cada produc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param urec{prod,rec} &gt;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manda de cada produc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param dda{prod} &gt;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tilidad por cada produc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param util{prod} &gt;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riables: Cantidad a producir de cada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var x {prod} &gt;= 0; (var x{i in prod} &gt;= 0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y Progra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Objetivo: Maximizar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ma sobre todos los productos de la utilidad unitaria por la cantidad produ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maximize utils: sum{i in prod} (x[i]*util[i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tri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atisfacer Dema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subject to satdda {p in PROD}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x[p] &gt;= dda[p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Limit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subject to recmax{r in REC}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sum {p in PROD} (x[p]*uso[p,r]) &lt;= crec[r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aturaleza de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luida en definición de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ju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set PROD := pd ps vd v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set REC := mad maq hh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áme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param: crec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mad 8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maq 4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hhb 4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param uso: mad maq hhb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pd 4 1.5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ps 2.5 1 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vd 3 2 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vs 1.8 0.8 0.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param: dda precio costo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pd 0 120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ps 200 80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vd 120 100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vs 0 60 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c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brir archivo sw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pear amp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 op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pear los coman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option solver cpl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model archivo.mo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data archivo.d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solv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display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ar .run con comandos y ejecutar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run archivo.ru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 (también puede ser 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3203280" y="2276280"/>
            <a:ext cx="360360" cy="360360"/>
          </a:xfrm>
          <a:custGeom>
            <a:avLst/>
            <a:gdLst>
              <a:gd name="textAreaLeft" fmla="*/ 0 w 360360"/>
              <a:gd name="textAreaRight" fmla="*/ 360720 w 360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578" stAng="10800000" swAng="5400000"/>
                <a:lnTo>
                  <a:pt x="13983" y="4582"/>
                </a:lnTo>
                <a:lnTo>
                  <a:pt x="13983" y="0"/>
                </a:lnTo>
                <a:lnTo>
                  <a:pt x="21600" y="6079"/>
                </a:lnTo>
                <a:lnTo>
                  <a:pt x="13983" y="12158"/>
                </a:lnTo>
                <a:lnTo>
                  <a:pt x="13983" y="7576"/>
                </a:lnTo>
                <a:lnTo>
                  <a:pt x="12427" y="7576"/>
                </a:lnTo>
                <a:arcTo wR="9433" hR="4584" stAng="16200000" swAng="-5400000"/>
                <a:lnTo>
                  <a:pt x="2994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350028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87800" y="40971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chivo.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7:30:35Z</dcterms:created>
  <dc:creator>Guzmán Silva</dc:creator>
  <dc:description/>
  <dc:language>en-US</dc:language>
  <cp:lastModifiedBy>Guzmán Silva</cp:lastModifiedBy>
  <dcterms:modified xsi:type="dcterms:W3CDTF">2006-06-13T08:27:10Z</dcterms:modified>
  <cp:revision>2</cp:revision>
  <dc:subject/>
  <dc:title>Introducción MODELACIÓN Y RESOLUCIÓN DE MODELOS DE PROGRAMACIÓN MATEMÁTICA USANDO CPLEX Y OPL STUDIO </dc:title>
</cp:coreProperties>
</file>